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0FE4-D7D1-4A9C-AAF9-5F825578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8D80-7D7B-416D-8C6A-FC45E685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4B0D-A64B-45BD-82BD-4CDAFE81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270E-700C-4D33-9A71-8DD3F7E3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EF0C-D711-4BE6-A08C-7AA51E5F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0E17-4618-45F6-9D5E-B8D39127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4F97-B062-4133-9B87-328C8C55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E00F-7191-4110-9FA6-CE9D215B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360F-96B0-4594-9153-D2A33CDF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4E1B-85FF-48C5-A322-A9F5340E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6A84-F8F0-4528-9F80-76CA19D9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C2E2-7371-487E-AED5-FEEBB594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5B7C-D7B1-4236-AAF4-2A866D578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6858000" cy="9905400"/>
            <a:chOff x="0" y="0"/>
            <a:chExt cx="6858000" cy="990540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6858000" cy="86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Fiche d’expression de bes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868320"/>
              <a:ext cx="519768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Structure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édacteur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197680" y="868320"/>
              <a:ext cx="165996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Date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1911240"/>
              <a:ext cx="6858000" cy="17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Contexte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64932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Objet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469188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Objectifs poursuivis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573480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appel de l’existant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677736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Gains attendus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886284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isques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781992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Contraintes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0:12:12Z</dcterms:modified>
  <cp:revision>101</cp:revision>
  <dc:subject/>
  <dc:title>Présentation PowerPoint</dc:title>
</cp:coreProperties>
</file>